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7D49-C66A-48CA-B2ED-4228E0EC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565-1668-448B-85FA-4C828936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4F97-34A8-48D8-8286-82C2A9AF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4F28-0F42-4C20-B0B7-0131E64F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28FB-6B22-4EC0-ADCE-247CB4B6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C4D7-2A06-4F4D-9DA9-65DC7F5C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DF57-147B-43A4-8503-130DCAFC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319F-B1E4-43D2-B588-010F7A14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1EAC-5837-4E43-A810-805261C1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3573-8BA1-4CE2-8679-6ACC0914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0DD1-7BB2-4CC3-8ACD-D7C05403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7DC-4FC4-4284-A55E-D10E13B2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254D-EF94-4DF2-87A2-EABC665A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8590-B343-45C4-A2E9-7ABEC0CF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7E05-03AD-4793-AE77-F6E98FA9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9A1C-4902-4F38-B74C-C013AFEC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C3D6-3D1A-4548-8EB0-41D9AC6A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1AF-1860-405E-A0EE-63DEE5EA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A77-A96F-4D8C-BB65-35F3D741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D75-C724-4826-A438-46D63DE5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DF7-2E8B-4980-A71D-9462F59F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0C32-9811-4A8D-ACEB-F057E244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65B-85CA-4F78-B755-66EA4808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71FB-DE1C-4053-A0C2-8102591C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6EF0-479B-45A9-98E1-FC3F0CF9594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44BF-CC4F-4001-99D8-C0E402F667F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600" spc="-1" strike="noStrike">
                <a:solidFill>
                  <a:srgbClr val="ffff99"/>
                </a:solidFill>
                <a:latin typeface="Times New Roman"/>
              </a:rPr>
              <a:t>Sucessos e Fracassos em </a:t>
            </a:r>
            <a:br>
              <a:rPr sz="5600"/>
            </a:br>
            <a:br>
              <a:rPr sz="3400"/>
            </a:br>
            <a:r>
              <a:rPr b="0" lang="pt-BR" sz="5600" spc="-1" strike="noStrike">
                <a:solidFill>
                  <a:srgbClr val="ffff99"/>
                </a:solidFill>
                <a:latin typeface="Times New Roman"/>
              </a:rPr>
              <a:t>Estratégica Logística</a:t>
            </a:r>
            <a:br>
              <a:rPr sz="5000"/>
            </a:br>
            <a:br>
              <a:rPr sz="3400"/>
            </a:br>
            <a:r>
              <a:rPr b="0" lang="pt-BR" sz="3400" spc="-1" strike="noStrike">
                <a:solidFill>
                  <a:srgbClr val="ffff99"/>
                </a:solidFill>
                <a:latin typeface="Times New Roman"/>
              </a:rPr>
              <a:t>Prof. Luciel</a:t>
            </a:r>
            <a:endParaRPr b="0" lang="en-US" sz="3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967280" y="5157360"/>
            <a:ext cx="4176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imes New Roman"/>
              </a:rPr>
              <a:t>Rodrigo Marque Dent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imes New Roman"/>
              </a:rPr>
              <a:t>Administraçã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imes New Roman"/>
              </a:rPr>
              <a:t>7º semest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imes New Roman"/>
              </a:rPr>
              <a:t>RA 15493-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99"/>
                </a:solidFill>
                <a:latin typeface="Times New Roman"/>
              </a:rPr>
              <a:t>Shiniko-Izza do Brasil</a:t>
            </a:r>
            <a:endParaRPr b="0" lang="en-US" sz="5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ui extenso catálogo on-line de produtos de difícil visualização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ão possui controle de estoque, ocorrendo falta de produtos na entreg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dedores despreparado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bra de contratos firmados, como fretes, 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99"/>
                </a:solidFill>
                <a:latin typeface="Times New Roman"/>
              </a:rPr>
              <a:t>Shiniko-Izza do Brasil</a:t>
            </a:r>
            <a:endParaRPr b="0" lang="en-US" sz="5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99"/>
                </a:solidFill>
                <a:latin typeface="Times New Roman"/>
              </a:rPr>
              <a:t>McDonald’s Brasil </a:t>
            </a:r>
            <a:br>
              <a:rPr sz="4000"/>
            </a:br>
            <a:r>
              <a:rPr b="0" lang="pt-BR" sz="4000" spc="-1" strike="noStrike">
                <a:solidFill>
                  <a:srgbClr val="ffff99"/>
                </a:solidFill>
                <a:latin typeface="Times New Roman"/>
              </a:rPr>
              <a:t>Parque Dom Pedro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mbora seja uma empresa bem conceituada também possui problemas com logístic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ato real apontado abaixo, refere-se à distribuição de produto promociona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- McLanche Feliz com brinde diferente para meninos e meninas, ocorrendo a falta do brinde masculino, sendo entregue o feminino para todos, trazendo insatisfação e tumul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99"/>
                </a:solidFill>
                <a:latin typeface="Times New Roman"/>
              </a:rPr>
              <a:t>McDonald’s Brasil </a:t>
            </a:r>
            <a:br>
              <a:rPr sz="4000"/>
            </a:br>
            <a:r>
              <a:rPr b="0" lang="pt-BR" sz="4000" spc="-1" strike="noStrike">
                <a:solidFill>
                  <a:srgbClr val="ffff99"/>
                </a:solidFill>
                <a:latin typeface="Times New Roman"/>
              </a:rPr>
              <a:t>Parque Dom Pedro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99"/>
                </a:solidFill>
                <a:latin typeface="Times New Roman"/>
              </a:rPr>
              <a:t>Sorveteria Serge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bora possua bons produtos possui dificuldades no atendimento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resa familiar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érios problemas aos fins de semana devido a cultura religiosa dos funcionários, quando o movimento é maior e ocorre a compensação de folgas por não trabalharem aos sábad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99"/>
                </a:solidFill>
                <a:latin typeface="Times New Roman"/>
              </a:rPr>
              <a:t>Sorveteria Serge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2698560" cy="2133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2808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Times New Roman"/>
              </a:rPr>
              <a:t>Melhores organizações </a:t>
            </a:r>
            <a:endParaRPr b="0" lang="en-US" sz="5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uem os melhores e mais bem treinados funcionário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stema de informação completo e dinâmico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ometimento com entrega, qualidade, satisfação do client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ilidade e fluxo na movimentação de materi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Times New Roman"/>
              </a:rPr>
              <a:t>Piores organizações</a:t>
            </a:r>
            <a:endParaRPr b="0" lang="en-US" sz="5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uem funcionários despreparados e sem iniciativ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lta de planejamento e coordenação de estoqu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ão possuem comprometimento com o client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Times New Roman"/>
              </a:rPr>
              <a:t>Ranking das Melhores</a:t>
            </a:r>
            <a:endParaRPr b="0" lang="en-US" sz="5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ransportadora Rápido 9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quarius - Comércio de Derivados de Petróleo Lt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finaria de Paulínia (REPLAN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Times New Roman"/>
              </a:rPr>
              <a:t>Transportadora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Rápido 90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60200"/>
            <a:ext cx="896472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adora está no mercado há cinco década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ui sistema integrado de informatização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ui itinerário fixo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ém deste transporte também gerencia armazéns de estocagem de produto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51680" y="260280"/>
            <a:ext cx="71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Times New Roman"/>
              </a:rPr>
              <a:t>Transportadora Rápido 90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ffff99"/>
                </a:solidFill>
                <a:latin typeface="Times New Roman"/>
              </a:rPr>
              <a:t>Aquarius – Comércio de Derivados de Petróleo Ltda</a:t>
            </a:r>
            <a:endParaRPr b="0" lang="en-US" sz="4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ui sistema informatizado de pedidos completo e funcional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ionários altamente qualificado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ronização nas mercadorias e sistema de entrega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omisso com prazos e qualidade no atendim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ffff99"/>
                </a:solidFill>
                <a:latin typeface="Times New Roman"/>
              </a:rPr>
              <a:t>Aquarius – Comércio de Derivados de Petróleo Ltda</a:t>
            </a:r>
            <a:endParaRPr b="0" lang="en-US" sz="4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99"/>
                </a:solidFill>
                <a:latin typeface="Times New Roman"/>
              </a:rPr>
              <a:t>Refinaria de Paulínia (REPLAN)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odas as retiradas são feitas por programação antecipada através da central de atendimento ou pelo sit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a programação consta o horário de carregamento, sequência de veículo, conseguindo assim planejar corretamente as viagen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trole de qualidade rigoroso, com sorteio inesperado dos veícul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99"/>
                </a:solidFill>
                <a:latin typeface="Times New Roman"/>
              </a:rPr>
              <a:t>Refinaria de Paulínia (REPLAN)</a:t>
            </a:r>
            <a:endParaRPr b="0" lang="en-US" sz="47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Times New Roman"/>
              </a:rPr>
              <a:t>Ranking das Piores</a:t>
            </a:r>
            <a:endParaRPr b="0" lang="en-US" sz="5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hiniko-Izza do Brasi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cDonald’s Brasil – Parque Dom Pedr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orveteria Sergel</a:t>
            </a: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6:57:46Z</dcterms:created>
  <dc:creator>User</dc:creator>
  <dc:description/>
  <dc:language>en-US</dc:language>
  <cp:lastModifiedBy>User</cp:lastModifiedBy>
  <dcterms:modified xsi:type="dcterms:W3CDTF">2011-03-20T18:41:02Z</dcterms:modified>
  <cp:revision>13</cp:revision>
  <dc:subject/>
  <dc:title>Sucessos e Fracassos em   Estratégica Logística</dc:title>
</cp:coreProperties>
</file>